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08038"/>
        <c:axId val="73755859"/>
      </c:barChart>
      <c:catAx>
        <c:axId val="11608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55859"/>
        <c:crosses val="autoZero"/>
        <c:auto val="1"/>
        <c:lblAlgn val="ctr"/>
        <c:lblOffset val="100"/>
        <c:noMultiLvlLbl val="0"/>
      </c:catAx>
      <c:valAx>
        <c:axId val="73755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08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CF5-A80B-4FF6-91BF-124E0EBB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C3D-6952-48EA-9F6C-4D69824E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C46-5483-419A-AB15-769799EA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1B4-3600-4B04-A35D-E847BD37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AD6-E227-4EB9-AC7F-9F094E5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842-B16C-4D91-BA73-AFCC1517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A93-F6F3-4264-9F56-5F4ECFFF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912-BD3F-4D9D-80EC-6483C94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1D9-CDA9-4D04-90AC-340B21F8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2AE-6B90-45B0-B82E-648CF47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094-C105-4EBD-BC08-C3B64E99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ED6-0EAC-4570-9B98-8C1F881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139F-328D-45F4-B0E1-63B44FB30E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