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777551"/>
        <c:axId val="21881605"/>
      </c:barChart>
      <c:catAx>
        <c:axId val="597775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81605"/>
        <c:crosses val="autoZero"/>
        <c:auto val="1"/>
        <c:lblAlgn val="ctr"/>
        <c:lblOffset val="100"/>
        <c:noMultiLvlLbl val="0"/>
      </c:catAx>
      <c:valAx>
        <c:axId val="218816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7775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766-9866-4035-BB0F-24305A44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4B4-B178-478D-BC92-F8F93989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FE4A-7D7B-40C0-9909-055E6BE87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04E4-50CE-4E21-90EE-987E76C9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CF8-B117-4BF7-B879-6F2CE7EA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0E0A-1598-4DFE-AE06-9E4D5FBF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AA4-8186-453E-A970-261E1AD3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7D25-6324-4C5B-85E9-AED1BD3C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6C4-F2A7-4A09-A057-42EF6771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4A0-FF0F-43AD-85D1-8FAB2DB4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3811-BABA-4FAB-83CA-218302CC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A826-0581-44FD-9F25-98084B07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B674BE-19E5-476E-903E-032349AC5E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