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77053"/>
        <c:axId val="93848543"/>
      </c:barChart>
      <c:catAx>
        <c:axId val="84377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8543"/>
        <c:crosses val="autoZero"/>
        <c:auto val="1"/>
        <c:lblAlgn val="ctr"/>
        <c:lblOffset val="100"/>
        <c:noMultiLvlLbl val="0"/>
      </c:catAx>
      <c:valAx>
        <c:axId val="93848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7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F47-A6EE-4D40-8AD1-B11E4E80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44C-C6DD-44BC-9524-096C1B0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47A-40D9-4169-8493-26657219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4E7-EC1C-45C5-8D61-073C7A7D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DBC-99C3-4DA0-BD43-EAC2C5A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D41-2D4D-4952-BAD3-E8F67AEE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9EF-037F-470B-A34E-1D6479E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AB3-272C-46FF-8A3D-B869AF21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760-B372-4D80-A47B-58A775E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861-4ABB-41BF-9F90-F9E2B30E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BAF-C365-4F0E-93BB-26F1818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2F0-E9E0-4A2A-9E55-484CF3B6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DD453-09B4-4428-B3FA-A98186B5F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