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04581"/>
        <c:axId val="33281771"/>
      </c:barChart>
      <c:catAx>
        <c:axId val="775045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81771"/>
        <c:crosses val="autoZero"/>
        <c:auto val="1"/>
        <c:lblAlgn val="ctr"/>
        <c:lblOffset val="100"/>
        <c:noMultiLvlLbl val="0"/>
      </c:catAx>
      <c:valAx>
        <c:axId val="33281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045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8F7-9C28-4541-9EAB-247C7DDF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745-C8CF-477D-88D1-376F7597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571-440A-4E7C-B108-4B1B9427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F1D-A655-469B-9FED-41C9DC1E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53D-C0AE-42C1-86A4-6D325A34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5AD-8116-4793-B4A9-34A2DED5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524-7CD3-44EB-9F13-2045D7BD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4B9-B690-43EF-9D84-D4F5C7B8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028-7CD1-4B30-9255-A73F99A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EA3-550A-430C-AE23-795635A7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9BC-7614-4E05-BB19-CBDA3A69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D7F-00CA-42C3-A404-555EB1B7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59F33-5951-4E90-8EEC-5D94164284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