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05106"/>
        <c:axId val="35565344"/>
      </c:barChart>
      <c:catAx>
        <c:axId val="64505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65344"/>
        <c:crosses val="autoZero"/>
        <c:auto val="1"/>
        <c:lblAlgn val="ctr"/>
        <c:lblOffset val="100"/>
        <c:noMultiLvlLbl val="0"/>
      </c:catAx>
      <c:valAx>
        <c:axId val="35565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05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D36-DD7F-4D61-9AAD-0CD6A762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294-8ED7-447D-BDD4-F4A7E232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8BB-E205-4636-A34D-324872C3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96F-8D88-41AB-8D0B-52B41E56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142-E2CE-40D8-9A2C-E9A79B3F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98C-26D2-49B3-A5CB-14317828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BC2-3A96-45A8-B2EE-2DD5EF24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591-8976-498A-AFF0-43B01FC6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3D6-EC0E-414D-9E0B-73452069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9C4-23BC-4672-86C6-D2AF831C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2FC-646C-40DA-AB37-7CF7C7E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CBB-773E-4D35-8745-72D67DC5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09CC2-B9B4-4BFD-B405-6E611017F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