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70640"/>
        <c:axId val="26536859"/>
      </c:barChart>
      <c:catAx>
        <c:axId val="99070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36859"/>
        <c:crosses val="autoZero"/>
        <c:auto val="1"/>
        <c:lblAlgn val="ctr"/>
        <c:lblOffset val="100"/>
        <c:noMultiLvlLbl val="0"/>
      </c:catAx>
      <c:valAx>
        <c:axId val="26536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70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E84-7CA7-4A55-9FED-04D7F81F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160-5DD5-499E-BB85-EDE57B5B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622-6C1B-4A0C-92A5-D5BD5718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98C-DAB8-4503-9ECF-18BD9485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EE5-4873-4AE7-93D5-9A1F858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FC3-65B6-47D6-8C78-9A86D1BF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B83-A040-45BC-A85D-7EEB007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93E-A65C-4D83-A9BB-F3BD5701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EC9-8FDD-431C-A3AC-C081D04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5E4-8CA0-4CD5-8A48-D798207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8DB-16BA-4A83-8924-C3022060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9B1-4C99-400D-A7BE-CA45740D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90677-6BCA-4A72-8EE5-F64A88D75A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