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76423"/>
        <c:axId val="60067799"/>
      </c:barChart>
      <c:catAx>
        <c:axId val="16876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67799"/>
        <c:crosses val="autoZero"/>
        <c:auto val="1"/>
        <c:lblAlgn val="ctr"/>
        <c:lblOffset val="100"/>
        <c:noMultiLvlLbl val="0"/>
      </c:catAx>
      <c:valAx>
        <c:axId val="60067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76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808-32D1-43F9-85A2-460BD0B2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A92-06E2-4934-83BF-F98B23F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D5D-8A60-433A-B4D6-DD75EAE1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0A9-915A-44EC-B57E-7EB9BD66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634-520A-4CFB-9832-67F0332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714-C83A-4CD1-BBEA-A427B498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EEB-54EB-4942-8E11-A041E060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B29-492F-40B1-945E-EC4B3926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EAA-00F6-4841-8425-8E9C1B2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C31-A9DE-4C11-9C29-F95479F7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1DA-6A2F-46F7-99FF-AA07B1B0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6F8-DAD3-4292-A09F-7BB1C2F6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DBCA4-DD75-4C07-9295-6D05EF2B76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