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82484"/>
        <c:axId val="15408209"/>
      </c:barChart>
      <c:catAx>
        <c:axId val="75982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08209"/>
        <c:crosses val="autoZero"/>
        <c:auto val="1"/>
        <c:lblAlgn val="ctr"/>
        <c:lblOffset val="100"/>
        <c:noMultiLvlLbl val="0"/>
      </c:catAx>
      <c:valAx>
        <c:axId val="15408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82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4FD-3425-4429-A50F-C1DD627F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607-838D-4E07-B748-636762D6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7E8-9E1D-4743-8C1A-C46CE93E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EFE-2A04-456E-8FD4-B421BB8F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0E0-B783-44C6-AC33-28E74BFA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DDB-BA70-497E-BF0D-A6BDD248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120-F665-466E-9128-CD4E1B6F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084-3F45-44DF-97C8-BD864275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CF3-5626-402D-9BAB-651D1FED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A49-C959-4495-9CCA-4A62238C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970-66AF-413F-85EE-66A5392A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18C-91F5-4936-96F5-F545A781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92D1B-91C0-4ACB-910C-E23842350D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