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39732"/>
        <c:axId val="12355827"/>
      </c:barChart>
      <c:catAx>
        <c:axId val="63639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5827"/>
        <c:crosses val="autoZero"/>
        <c:auto val="1"/>
        <c:lblAlgn val="ctr"/>
        <c:lblOffset val="100"/>
        <c:noMultiLvlLbl val="0"/>
      </c:catAx>
      <c:valAx>
        <c:axId val="12355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9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264-4DBE-4DA3-BA97-2A05BD42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6BF-08E2-4D94-B128-1FEDEAE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C7C-BE9A-42BF-BF61-D39C0622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A1B-D0BF-42F2-8B1E-626FF6C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108-EF41-4166-8FB1-6F47897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7D6-B5DA-4054-B9C9-CB67CB0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5B4-0431-4707-BF91-94B3A60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AEB-5947-4FAE-B16C-3B422C8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F55-C91F-476A-AAC1-9C530D57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D5C-19AA-403A-A47A-AA17B418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11-BF70-401D-9BC1-17D888EE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685-502E-4E23-96C6-30E8735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676E-7F42-4A7C-AA20-65F85DF11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