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952957"/>
        <c:axId val="46010252"/>
      </c:barChart>
      <c:catAx>
        <c:axId val="79952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10252"/>
        <c:crosses val="autoZero"/>
        <c:auto val="1"/>
        <c:lblAlgn val="ctr"/>
        <c:lblOffset val="100"/>
        <c:noMultiLvlLbl val="0"/>
      </c:catAx>
      <c:valAx>
        <c:axId val="460102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52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775-925A-429D-ABA6-CA5EF1A91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B1D1-428A-4608-9031-F0353574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4DF-EECC-4917-B763-D0C931C3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C7A8-497B-4206-AB98-15435392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37A-3AD5-4CE6-8FAF-B3245323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8DF1-AF04-4BD8-B84B-FCE6F590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7852-0C26-438C-8439-8B4C172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BC3F-F8C9-406F-AC6C-88A4A65A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2FCF-3BE8-4B1A-AA3E-20B8CEE2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C52-24E0-40D8-98A0-7D08D089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B68-6BBE-4E04-8B2B-BE90F440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B38-DE23-4426-99C7-59B9D537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FEEE7-DB7F-49B4-808F-F92360D32A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