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181197"/>
        <c:axId val="32808975"/>
      </c:barChart>
      <c:catAx>
        <c:axId val="861811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808975"/>
        <c:crosses val="autoZero"/>
        <c:auto val="1"/>
        <c:lblAlgn val="ctr"/>
        <c:lblOffset val="100"/>
        <c:noMultiLvlLbl val="0"/>
      </c:catAx>
      <c:valAx>
        <c:axId val="328089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1811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A734-B527-4596-83DD-7AFE98F1A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8F69-56D8-40D9-AFCF-F8E8858D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EEBF-3E94-43D4-8AAE-2A6A836C1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02AC-7975-4BE5-B071-310745F3B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4E2B-14D4-4BC6-8468-EE69D4DF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55B4-A1E8-4A5A-9E7C-59313ACF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FA20-DB46-4813-B600-6DA9A193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48D7-190E-4B1A-A7FE-E5B49BCB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07FA-8436-4B9F-AFE3-01798AC1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D2DA-8C1E-404F-8363-86379881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E1D0-72D1-499E-99F4-D62B1E23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0D75-B22D-4958-8E3F-5787361E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D0CA28-7F06-4FBC-B812-F8A7C55B4A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