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5365706"/>
        <c:axId val="35446371"/>
      </c:barChart>
      <c:catAx>
        <c:axId val="6536570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446371"/>
        <c:crosses val="autoZero"/>
        <c:auto val="1"/>
        <c:lblAlgn val="ctr"/>
        <c:lblOffset val="100"/>
        <c:noMultiLvlLbl val="0"/>
      </c:catAx>
      <c:valAx>
        <c:axId val="3544637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36570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56014-D484-4517-B43B-29FB14F15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F789A-D289-4F70-A040-ACF25170B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D1EC6-7375-4420-8608-8A1232804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08BC1-7402-4296-9150-7637EE031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63E3E-A9B5-4F40-9852-60E2821BD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13B1F-1D98-438F-B7AA-6A1C0C1E1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4B7CE-9D5A-48B8-A6BE-B909CFD0B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0EFC8-8BF3-4D9F-83CA-C35CF13E4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29EE7-50BD-49BE-9934-1170BAB9E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ECA64-A760-47F6-BD35-0FF6F2731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8D479-8CE5-4AA3-ABE3-769EFF0FC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86D6F-8633-4E09-8291-F8398B630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4A52B6-4E30-4358-B3FC-0E527B1D25E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