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21396"/>
        <c:axId val="21101427"/>
      </c:barChart>
      <c:catAx>
        <c:axId val="11221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01427"/>
        <c:crosses val="autoZero"/>
        <c:auto val="1"/>
        <c:lblAlgn val="ctr"/>
        <c:lblOffset val="100"/>
        <c:noMultiLvlLbl val="0"/>
      </c:catAx>
      <c:valAx>
        <c:axId val="21101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21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E5C-3761-45B1-AF1D-D5702396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5A4-4371-4A2D-BC1E-F12C7624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C66-47C5-4F60-AE31-17729506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65B-8705-49F7-A4FD-2BCA5043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425-BB6E-4D4B-9135-43870640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527-6F09-414E-BE5C-AEB34333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03A-8902-4996-B715-CE23D460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CA6-D125-4FBA-BDA1-5E0A0FEA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C40-728B-48A9-A177-9EF9563A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B6A-CAFC-43C1-A613-8C188E6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6E5-91F3-464B-9D5A-660F91B8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93C-7E4A-4CDA-ACFC-5E854A2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F7B66-F1BC-4BA9-81A9-6EF638BC8D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