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52935"/>
        <c:axId val="62020286"/>
      </c:barChart>
      <c:catAx>
        <c:axId val="53252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20286"/>
        <c:crosses val="autoZero"/>
        <c:auto val="1"/>
        <c:lblAlgn val="ctr"/>
        <c:lblOffset val="100"/>
        <c:noMultiLvlLbl val="0"/>
      </c:catAx>
      <c:valAx>
        <c:axId val="62020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2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2CC-196E-4DC5-A3DE-E734AEC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9B7-E975-4218-8DC5-E257E8A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7CF-D065-450E-AA7A-5BC671AC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518-BFBB-4F78-93B8-12D40CB6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61-5E50-490E-B7BB-6631BC4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0EB-7800-4C1A-AFF1-1BE75FC4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E29-BC18-4071-AD0A-9940FDF3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223-9A74-4B4B-B4A3-8E4BEDE5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762-C4BF-473E-A695-8C387C5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629-26AC-4751-9B4A-37A25C4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762-9D0A-463F-BEC0-DE7031A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59B-4CB7-44C6-A12D-A5C0128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E70BD-6C1B-49DC-A429-21E885EDB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