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72234"/>
        <c:axId val="95779873"/>
      </c:barChart>
      <c:catAx>
        <c:axId val="51272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79873"/>
        <c:crosses val="autoZero"/>
        <c:auto val="1"/>
        <c:lblAlgn val="ctr"/>
        <c:lblOffset val="100"/>
        <c:noMultiLvlLbl val="0"/>
      </c:catAx>
      <c:valAx>
        <c:axId val="95779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72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0B1-1832-4DEB-8DBF-70D50B4A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74E-C360-4206-8F71-6EC06C5D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5CC-659E-45FA-990D-AA5BBC3E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B4F-1148-415F-96B6-EB06176C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DAF-9900-419A-8838-4B1E19DD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820-9BD8-4779-9108-C9A32453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F79-B236-4D38-B705-B0D679F1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564-9359-4AB1-98E1-A40F902B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244-F5DA-4DC1-ACED-0BA4F43D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30E-EB70-4904-BCA7-577B52B1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19F-9484-4C0C-A86B-D25B4112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762-85F7-41BF-87C6-F7834D3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6B32A-71B3-4017-84E5-6F640D7473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