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880626"/>
        <c:axId val="66156400"/>
      </c:barChart>
      <c:catAx>
        <c:axId val="438806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156400"/>
        <c:crosses val="autoZero"/>
        <c:auto val="1"/>
        <c:lblAlgn val="ctr"/>
        <c:lblOffset val="100"/>
        <c:noMultiLvlLbl val="0"/>
      </c:catAx>
      <c:valAx>
        <c:axId val="661564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806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5735-C218-41D2-8D90-30BA1EAA9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9443-B8DC-4061-AF8D-BB032734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AA73-6A0E-4095-AF16-ECC31CEC7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D8AE-8A76-49A6-8422-32E8156C8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F391-BD8C-4753-B7B5-2243CDCD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C183-AA16-4C41-983E-06AC9E43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984F-0980-4A4E-95F6-0FC6EDD8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9D8D-A2B9-477F-815B-8E3CFC7A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90AE-F9F8-41D8-A885-243A9F5E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0521-323D-4806-8867-5305515A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D935-640B-48D9-8F3D-5789ADE3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69A4-90F1-4B02-8D3D-708FA842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372F9-62F5-406E-9B0B-E39DA6AE92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