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7889331"/>
        <c:axId val="55638479"/>
      </c:barChart>
      <c:catAx>
        <c:axId val="9788933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638479"/>
        <c:crosses val="autoZero"/>
        <c:auto val="1"/>
        <c:lblAlgn val="ctr"/>
        <c:lblOffset val="100"/>
        <c:noMultiLvlLbl val="0"/>
      </c:catAx>
      <c:valAx>
        <c:axId val="5563847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88933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0DF89-EF7D-4F09-B00E-3E1975CE7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B9B62-29C3-4DD4-B3D6-E60BF69C6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D9ABE-D9E6-4A08-8BFC-29CFFDCE2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0F014-99D3-4728-8049-686300297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C9DB7-98AA-4616-974D-93C41E013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A6CC3-998D-47A0-92B1-D468029D0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7EE9A-9BC9-4B5D-8CCB-EAD172D80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B9537-8063-4DB9-BA6F-2DB88DE6A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CA3FC-D25B-4E42-BC93-2ECCD60BF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F0E2F-07CB-40E5-AA3E-05EB9C581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B806D-75B1-46B5-9F26-D46E6F7F3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930F8-D106-4F80-9D3F-831636497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7DB186-5E3F-4C87-9907-1C6D9FCF8EA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